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A16-E045-4998-B651-50DBBD00D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858-1F2B-408D-9122-1851F0F39E4F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CB9-5745-4608-9A26-FA79E01B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D15-F912-4208-9CE1-0103343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F44F6-332A-4A9B-A47A-B65FD05A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78EA-6019-4760-B5C4-9D26ED0F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DF7F-82F7-4F50-9DDD-ECC689E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C530E-A212-4CE4-A1B4-25D6E58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D5C7-30A3-4358-809F-CA50251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2B229-64DB-4512-929E-09BC35A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5B18-7DA7-4D64-BFAE-EB005DA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24134-6813-474E-84CF-989ADD9C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3DF52-2A4D-4C95-B637-194C8EF6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6C894-1404-4662-92EB-902994B9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EA5-53D3-4528-A120-6B5E4B70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53282-7AE3-4F9C-891A-EC0EC5A6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2407C-BAEA-462C-89B0-D598B6EA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4E8A1-CA04-4215-A0EA-C921ABC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6FA0C-2E56-4153-8D79-FAD91CA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7FDB2-6EAA-47F4-AA9B-9019D18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A75FE-EB49-4BF2-9753-326137D7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2C3C-171C-4E5F-BB8B-A2A09B3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C8AAB-73D7-4ADE-97A2-358222F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88DD-BB2A-453A-8EDA-568237D4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8E71F-98D8-42F0-AF1C-657336AC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86E-2B5A-46C8-B1D2-9D7507D8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000B8-7A17-47E1-B4F2-99B5715E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E6530-7953-4A04-8041-0C504EB4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D4C7-C579-4E39-AFAD-748F826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E7342-2585-40C2-A10A-913DA81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00FC-B39B-4315-B938-7D2E6035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671CA-0110-4754-8046-A4CA62A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600FA-77F6-4FCF-90EA-F77CDCA2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BF22C-4152-4677-B903-114F875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29637-9439-49C9-A430-4A02546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EFFE8-5DAE-428A-9812-C936E0E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8A79-6DA5-420C-ACD4-59409AFF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30FA1-6820-4935-9B62-F54D2CE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71050-652C-4690-B875-6CC08384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C6FA0-65DD-446C-9B2D-E3336F94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D32DF-07A4-4FC1-AC67-AEDD926A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9AE9-D602-461A-AE0C-CB899A6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07FA1-3581-41AF-B7E6-D1ECEA17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06999-5DBE-4090-9079-7FC76E9A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B0187-1565-4C8C-A084-E7FF896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863A-0C9C-43A2-8EC5-4BC76CB4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8272D-CF2D-41DA-9EDD-D720FBA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5B5D-179C-4C22-94E6-ECAD3EED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A07FB-07DF-4AC3-9308-C1FB023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39884-44A5-4A9B-A5B5-2FC7408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333C4-C6A7-4DE5-AE50-E2894AD4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D5DB9-376D-4137-9D3D-8F7BE03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881B2-936F-45B0-893E-943559FD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65DD-A724-4653-A3B3-5AB73D71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C044-0243-4297-8712-8295AA6B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8A46-619D-4F81-8500-485DA0D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DB98-9089-4949-B1A0-9DD0DB6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3CA5-9B4A-4864-BBBB-54657EF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430-752C-46A7-AA6A-BF013C1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F9F-B06D-45D0-97FA-925B853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639-94A3-4C67-AE7D-C56FAAF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CA0E-7426-4624-9C4E-E372D55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0937-62BE-4E2E-AC90-69F560F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AE4-8030-4D8D-A8C1-F8979C08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3198-2386-4D7A-84CF-E1E4E96C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B8ED-33F5-4115-87BD-02362A74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5439-38E8-4025-9556-0E81C43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6F18-4A51-4E8B-9DB4-72A24899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AF8C-5454-434D-81D6-30379BD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2F0-E886-4AEF-987B-8C4F02BE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B7E0-6321-48AF-9E48-3E567F4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D041-EE6E-49E5-9A42-4CE8A02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8279-CD0F-493E-AA80-5819F77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0E40-3F0F-42F6-B5A3-73B6972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B976-B0AA-44C0-98FB-B1F5A492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34A5-CACA-40A3-A991-DF0995EA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4DD1-8BBD-4B26-9D72-51630896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DFCC8-F401-4AF9-869C-6300C6CF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BE4D-7C30-4AE8-A268-BDFEDA9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4A5E-5870-4B55-97D3-831DAE3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2D7-A76B-4888-9510-8051562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7153-0B99-49C4-B810-78942B9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E30A-45DE-4EAE-897A-2E01897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E82E-5532-4141-8CAB-F555244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7F5C-2728-41C6-8795-D675DA2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39CC-1609-4B34-8C18-B36B5C3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34F6-6F72-491A-8C34-3390AEF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D9F2-1E8D-47AB-A3D7-9C445919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33E9-8A42-4B1E-A207-D450191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2CFD-164B-4306-9B5D-1E4AE6B5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C6E0-ECD3-43F8-BBC1-4C063C9A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108-A582-41A8-A17F-3ED636CE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322B-05D9-447F-B514-60E0C2E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81FC-91CD-4E9E-88FE-FF9BD0D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6BD4-B0E5-449D-9E2E-99406F19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6904-567D-4BE2-8173-F76451E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16A4-F8F4-4DE4-A6A9-ACDEC9BD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E772-9D6D-4D5B-BFA9-39D2B42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F524-DB0B-49BD-8022-1FE5A4A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9C60-CEA8-49DC-B5B5-84284E7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0FE5-BEF9-4AB7-B144-F3DFAA5C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0875-A8C4-43E0-93FF-AC8213BF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171-045C-437E-9BA2-73CA5BC0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FA0F-17E8-410F-9101-CA2E8156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3913-7128-445C-914D-5B18CF9A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5E617-BF7D-43CC-8966-E40DA23C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0308-8B7A-449B-A914-ACE6659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4C5C-E99A-4A5D-B1FD-E7D41A6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36F7-3A01-4BD4-B5ED-6E20076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CB453-FDE8-4208-8A07-346F8A19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1063-DC85-4467-80B4-4D90DE5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FC91-4EE8-40C1-9CF1-1BCE6B1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F504-A7BB-419B-B2B5-41EE626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308-85CA-4494-94C0-DE3C054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F01A3-2D89-40A4-A14B-BB2A1CE0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D4B7-2D70-465F-98DF-94719C54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F61B-4064-44B0-857E-97AC4B02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B0B5-DCDB-421E-946B-3265A8A7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2576E-A702-4F56-8E82-D89CC58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CD6C-C270-4F93-94DD-2559594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FEB70-C140-48BC-8717-C7A3F61B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D0D08-88AD-4990-9817-AEB1DC9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40AD-34F0-48FF-BB60-DD6E43F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25F1-B151-402E-9F39-6032F01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C96-FB1E-4AAA-BA59-851F421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6545-4DAA-47C3-ACCA-2B4078E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AFB59-A478-43E7-BB9A-C153EC7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65F2C-A5D8-4C34-961D-5080B3E9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D4F23-EEAE-4570-BDB5-C8518745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D1728-FCE1-4591-99CD-8DE5E533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5994-C73A-424D-B95C-F4118290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DDA78-B842-450A-98DB-D30893A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E3F6-91B9-4D62-9BB2-4C7A1C09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DC46-F883-4FB6-B07C-146258C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4292-40D4-483F-9024-2E851E3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E41-3CBC-48CB-9508-15E3C1A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3DAC0-5F41-4EB6-B545-F29EE6D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1BEE-ED6F-409A-91F9-15CCD8C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3BE1-407F-4A86-AB26-CD275A5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39CB-7347-453A-863C-DD0462F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4D66D-7692-4C84-A1BE-731C37E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F0D1F-40D7-408A-A2FF-4AD9AA10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80D32-1851-42E6-940F-F19EAB36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9BBC1-39ED-40B7-B8B2-FD9BD85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8AE4D-3D0B-4DF0-874A-C386A41F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B3EF6-53A5-45D3-9D0B-599E576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F8E-A029-4CFF-A35B-DA05076F92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992160" y="762120"/>
            <a:ext cx="8151840" cy="609588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1077840" y="849240"/>
            <a:ext cx="7996320" cy="594036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0" y="4921200"/>
            <a:ext cx="990720" cy="196056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0" y="4824360"/>
            <a:ext cx="990720" cy="4464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Line 64"/>
          <p:cNvSpPr/>
          <p:nvPr/>
        </p:nvSpPr>
        <p:spPr>
          <a:xfrm>
            <a:off x="4680" y="45864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" name="Line 6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Line 68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Line 69"/>
          <p:cNvSpPr/>
          <p:nvPr/>
        </p:nvSpPr>
        <p:spPr>
          <a:xfrm>
            <a:off x="4680" y="50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Line 70"/>
          <p:cNvSpPr/>
          <p:nvPr/>
        </p:nvSpPr>
        <p:spPr>
          <a:xfrm>
            <a:off x="4680" y="27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Line 71"/>
          <p:cNvSpPr/>
          <p:nvPr/>
        </p:nvSpPr>
        <p:spPr>
          <a:xfrm>
            <a:off x="4680" y="32400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Line 73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Line 75"/>
          <p:cNvSpPr/>
          <p:nvPr/>
        </p:nvSpPr>
        <p:spPr>
          <a:xfrm>
            <a:off x="4680" y="414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Line 7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Line 78"/>
          <p:cNvSpPr/>
          <p:nvPr/>
        </p:nvSpPr>
        <p:spPr>
          <a:xfrm>
            <a:off x="4680" y="368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Line 79"/>
          <p:cNvSpPr/>
          <p:nvPr/>
        </p:nvSpPr>
        <p:spPr>
          <a:xfrm>
            <a:off x="4680" y="23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Line 80"/>
          <p:cNvSpPr/>
          <p:nvPr/>
        </p:nvSpPr>
        <p:spPr>
          <a:xfrm>
            <a:off x="880920" y="45864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Line 81"/>
          <p:cNvSpPr/>
          <p:nvPr/>
        </p:nvSpPr>
        <p:spPr>
          <a:xfrm>
            <a:off x="880920" y="50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Line 82"/>
          <p:cNvSpPr/>
          <p:nvPr/>
        </p:nvSpPr>
        <p:spPr>
          <a:xfrm>
            <a:off x="880920" y="27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Line 83"/>
          <p:cNvSpPr/>
          <p:nvPr/>
        </p:nvSpPr>
        <p:spPr>
          <a:xfrm>
            <a:off x="880920" y="32400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Line 85"/>
          <p:cNvSpPr/>
          <p:nvPr/>
        </p:nvSpPr>
        <p:spPr>
          <a:xfrm>
            <a:off x="880920" y="414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Line 86"/>
          <p:cNvSpPr/>
          <p:nvPr/>
        </p:nvSpPr>
        <p:spPr>
          <a:xfrm>
            <a:off x="880920" y="54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Line 87"/>
          <p:cNvSpPr/>
          <p:nvPr/>
        </p:nvSpPr>
        <p:spPr>
          <a:xfrm>
            <a:off x="880920" y="368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Line 88"/>
          <p:cNvSpPr/>
          <p:nvPr/>
        </p:nvSpPr>
        <p:spPr>
          <a:xfrm>
            <a:off x="880920" y="23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10F-6E56-42AB-AB5F-C24450B985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E5E-1420-400D-B736-172D2D5ECE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228-1A01-439A-A1AD-FB39E45980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6EF-D744-4220-BEC0-2723702048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C38-64AA-4F65-BBC9-F2C4AB1E3D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9037-D5E0-4790-BF27-1F48DEBD44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6D91-B746-4B8C-90E7-94E3C44D43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365-CEED-419C-B4B4-76EE90826E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1E8-0776-462D-B9B3-6B4AAD8EA7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8D3-DCF0-4D53-B2DB-0B1174D01F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C78-1A3D-47E4-8D2A-039CDBCA22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61720" y="836280"/>
            <a:ext cx="88484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ЗЕНТАЦИЯ ПРОЕКТ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______________________________________________________________________________________________________________________»</a:t>
            </a:r>
            <a:br>
              <a:rPr sz="28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9" name="Прямоугольник 2"/>
          <p:cNvSpPr/>
          <p:nvPr/>
        </p:nvSpPr>
        <p:spPr>
          <a:xfrm>
            <a:off x="887400" y="465300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тор(ы):  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55FF-EAC4-4011-A059-DB78D50DB46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9280" y="836640"/>
          <a:ext cx="8856720" cy="4680000"/>
        </p:xfrm>
        <a:graphic>
          <a:graphicData uri="http://schemas.openxmlformats.org/drawingml/2006/table">
            <a:tbl>
              <a:tblPr/>
              <a:tblGrid>
                <a:gridCol w="435240"/>
                <a:gridCol w="2903400"/>
                <a:gridCol w="2614680"/>
                <a:gridCol w="2903400"/>
              </a:tblGrid>
              <a:tr h="744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Роль в проект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Куратор проекта (проректор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</a:t>
                      </a: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дрядчи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Экспер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КОМАНДА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8C3-3697-4AF1-95E3-B09D0A07455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61" name="Таблица 2" descr=""/>
          <p:cNvPicPr/>
          <p:nvPr/>
        </p:nvPicPr>
        <p:blipFill>
          <a:blip r:embed="rId1"/>
          <a:stretch/>
        </p:blipFill>
        <p:spPr>
          <a:xfrm>
            <a:off x="249120" y="669960"/>
            <a:ext cx="8718840" cy="54561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1258920" y="90792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Команда проекта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3" name="Прямая соединительная линия 5"/>
          <p:cNvSpPr/>
          <p:nvPr/>
        </p:nvSpPr>
        <p:spPr>
          <a:xfrm>
            <a:off x="395280" y="738360"/>
            <a:ext cx="2232000" cy="161100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11560" y="1844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Работы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5" name="Прямоугольник 8"/>
          <p:cNvSpPr/>
          <p:nvPr/>
        </p:nvSpPr>
        <p:spPr>
          <a:xfrm>
            <a:off x="324000" y="609588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Обозначения: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О- 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ответственный,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выполня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И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информир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соглас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утверждает;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контролир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осуществляет мониторинг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МАТРИЦА ОТВЕТСТВЕН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6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5B5-55C0-47D0-9759-F88D6CFDD5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писание ситуации «Как Есть»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179280" y="765000"/>
            <a:ext cx="83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Тезисное описание  и параметров в соответствующей области до начала реализации проекта, желательно дополнительное размещение изображений, графиков и таблиц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39528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6C1-F1C1-4A34-A56C-A975D4DF80D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287280" y="765000"/>
            <a:ext cx="85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Тезисное описание измененных параметров и ситуации в соответствующей области после окончания проекта, желательно дополнительное размещение изображений, графиков и таблиц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9528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писание ситуации «Как Будет»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СНОВАНИЯ ДЛЯ ОТКРЫТИЯ ПРОЕКТА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68360" y="692280"/>
          <a:ext cx="8207280" cy="5657760"/>
        </p:xfrm>
        <a:graphic>
          <a:graphicData uri="http://schemas.openxmlformats.org/drawingml/2006/table">
            <a:tbl>
              <a:tblPr/>
              <a:tblGrid>
                <a:gridCol w="1800000"/>
                <a:gridCol w="6407280"/>
              </a:tblGrid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1609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правление Стратегии разви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звание и № пункта в Стратеги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Формальное основание для открытия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квизиты и формулировка поручения, приказа, ссылка на нормативный акт и др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бщие сведения о проект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нициатор: ФИО, должность, контактные данны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 составления: 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Номер слайда 1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9AA-D0FC-42FB-8EE8-1ACFEAD80DB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3F3-25F1-4168-BFEA-211DC4EA366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79280" y="692280"/>
          <a:ext cx="8817120" cy="5906880"/>
        </p:xfrm>
        <a:graphic>
          <a:graphicData uri="http://schemas.openxmlformats.org/drawingml/2006/table">
            <a:tbl>
              <a:tblPr/>
              <a:tblGrid>
                <a:gridCol w="1790640"/>
                <a:gridCol w="7026480"/>
              </a:tblGrid>
              <a:tr h="194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Цель, которую необходимо достичь по факту окончания проекта.  Цель направляется на пользователей проекта и должна быть: конкретная и понятная; – измеримая (содержать цифры); достижимая; в зоне ответственности и влияния команды проекта на 100%; определена на указанную в цели дату окончания проекта.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Имущественный либо неимущественный результат, который должен быть достигнут по факту достижения цели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Требования к результату проекта, которые будут учитываться при определении достижения данных результатов. Определяют качественные характеристики результата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Круг потребителей (область применения) результатов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ЦЕЛИ И РЕЗУЛЬТА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324000" y="907920"/>
          <a:ext cx="8712000" cy="5185080"/>
        </p:xfrm>
        <a:graphic>
          <a:graphicData uri="http://schemas.openxmlformats.org/drawingml/2006/table">
            <a:tbl>
              <a:tblPr/>
              <a:tblGrid>
                <a:gridCol w="457200"/>
                <a:gridCol w="6254640"/>
                <a:gridCol w="1050840"/>
                <a:gridCol w="949320"/>
              </a:tblGrid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оциальн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хват сотрудников (студентов) социальными благами за 1 год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Участие сотрудников (студентов) в мероприятиях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учно-исследовательская (учебная) 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студентов, охваченных образовательной программо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планируемых патентов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научных статей (материалов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Экономическ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Годовой объем выручк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Годовой объем прибыл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нтабельность инвестици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рок окупаемости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бъем инвестиций в основной капитал ВУЗа в рамках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ные показател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Прямоугольник 6"/>
          <p:cNvSpPr/>
          <p:nvPr/>
        </p:nvSpPr>
        <p:spPr>
          <a:xfrm>
            <a:off x="1332000" y="6459480"/>
            <a:ext cx="69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</a:rPr>
              <a:t>*  Рассчитывается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ПОКАЗАТЕЛИ ЭФФЕКТИВ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1D4-9BAD-4497-9EDC-D9D75AE48B7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08000" y="836640"/>
          <a:ext cx="8785080" cy="5483160"/>
        </p:xfrm>
        <a:graphic>
          <a:graphicData uri="http://schemas.openxmlformats.org/drawingml/2006/table">
            <a:tbl>
              <a:tblPr/>
              <a:tblGrid>
                <a:gridCol w="439560"/>
                <a:gridCol w="1511280"/>
                <a:gridCol w="895320"/>
                <a:gridCol w="976320"/>
                <a:gridCol w="890640"/>
                <a:gridCol w="254160"/>
                <a:gridCol w="255600"/>
                <a:gridCol w="253800"/>
                <a:gridCol w="254160"/>
                <a:gridCol w="255600"/>
                <a:gridCol w="253800"/>
                <a:gridCol w="254160"/>
                <a:gridCol w="254160"/>
                <a:gridCol w="253800"/>
                <a:gridCol w="255600"/>
                <a:gridCol w="254160"/>
                <a:gridCol w="255600"/>
                <a:gridCol w="253800"/>
                <a:gridCol w="254160"/>
                <a:gridCol w="255600"/>
                <a:gridCol w="253800"/>
              </a:tblGrid>
              <a:tr h="59940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лит-ть, дн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чал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 окончания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5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6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7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8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9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2012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TextBox 5"/>
          <p:cNvSpPr/>
          <p:nvPr/>
        </p:nvSpPr>
        <p:spPr>
          <a:xfrm>
            <a:off x="1258920" y="631980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34"/>
                </a:solidFill>
                <a:latin typeface="Arial"/>
              </a:rPr>
              <a:t>* - завершенные блоки работ  закрашиваются зеленым цветом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СНОВНЫЕ БЛОКИ РАБО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445B-7595-4329-9BB4-C3A7ECFFD63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50920" y="920880"/>
          <a:ext cx="8642160" cy="4740120"/>
        </p:xfrm>
        <a:graphic>
          <a:graphicData uri="http://schemas.openxmlformats.org/drawingml/2006/table">
            <a:tbl>
              <a:tblPr/>
              <a:tblGrid>
                <a:gridCol w="444240"/>
                <a:gridCol w="3635640"/>
                <a:gridCol w="960480"/>
                <a:gridCol w="1180800"/>
                <a:gridCol w="739800"/>
                <a:gridCol w="930240"/>
                <a:gridCol w="75096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з средств БелГУ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ривлеч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не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Указываются наименования основных блоков работ проекта,  (повторяются с предыдущего слайда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БЮДЖЕ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576-337D-40E3-B92C-0335A79AA2F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39640" y="836640"/>
          <a:ext cx="8496360" cy="5499000"/>
        </p:xfrm>
        <a:graphic>
          <a:graphicData uri="http://schemas.openxmlformats.org/drawingml/2006/table">
            <a:tbl>
              <a:tblPr/>
              <a:tblGrid>
                <a:gridCol w="347760"/>
                <a:gridCol w="1671480"/>
                <a:gridCol w="1581480"/>
                <a:gridCol w="2876400"/>
                <a:gridCol w="20192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ис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жидаемые последствия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Мероприятия по предупреждению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ействия в случае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писание события, которое может оказать влияние на реализацию проекта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писание последствий для проекта, возникших в результате наступления события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еречень мероприятий, направленных на предотвращение наступления события (в дальнейшем данные мероприятия должны найти отражение в контрольных событиях, основных блоках работ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еречень мероприятий, предпринимаемых в случае наступления события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РИСКИ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4:03:02Z</dcterms:created>
  <dc:creator>Admin</dc:creator>
  <dc:description/>
  <dc:language>en-US</dc:language>
  <cp:lastModifiedBy>Vadim</cp:lastModifiedBy>
  <cp:lastPrinted>2001-08-23T14:02:36Z</cp:lastPrinted>
  <dcterms:modified xsi:type="dcterms:W3CDTF">2012-07-02T06:50:34Z</dcterms:modified>
  <cp:revision>1675</cp:revision>
  <dc:subject/>
  <dc:title>Презентация PowerPoint</dc:title>
</cp:coreProperties>
</file>